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BE44-5E01-445D-8396-672E855B6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2BCD-87C0-4280-91AF-24EBB77D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B36E-0141-4F02-A84B-D8BA93B97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77DA-F6C9-4F44-B0DF-A79120A39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2968-0416-4973-B4F8-B446C62A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CB66-C5E7-49DD-A21B-86417F48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38AB-ACDA-4303-8AF9-C515F06D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FD6D-42D9-422A-8482-1779BD81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C0F7-B3E8-459B-B6A7-17F4F47A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8D7A-F0EE-4FC6-83AF-DBBFB0C1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2B87-0CF2-4471-8DE7-D6607A93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1802-D780-4707-9F61-99622494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966F-0E15-455B-B223-6052916D7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3880" y="928800"/>
          <a:ext cx="6019920" cy="50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28800"/>
                    <a:ext cx="601992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4T20:43:57Z</dcterms:created>
  <dc:creator>lambesi</dc:creator>
  <dc:description/>
  <dc:language>en-US</dc:language>
  <cp:lastModifiedBy>lambesi</cp:lastModifiedBy>
  <cp:lastPrinted>2003-04-24T19:47:02Z</cp:lastPrinted>
  <dcterms:modified xsi:type="dcterms:W3CDTF">2003-04-24T19:48:26Z</dcterms:modified>
  <cp:revision>18</cp:revision>
  <dc:subject/>
  <dc:title>Sin título de diapositiva</dc:title>
</cp:coreProperties>
</file>